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lick to move the slide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262D68-740F-4E48-8CED-6580759E9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5D4DF8-5BA6-4116-9F37-785BAE5D520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8844CC-C9C0-4657-8773-3311263FEC5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7CDE5F-958B-426D-ADB6-E01E2E75172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6E6-2B9B-4E14-8E54-1066D0EE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7920" y="377100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371-4186-45FA-B84F-BC265849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03A-B754-4740-8F9B-03BE703E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804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816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3792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804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816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656-1BA5-44DD-B10A-C27450B4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37920" y="189000"/>
            <a:ext cx="8163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4B1-92AD-42DC-AC97-D17F670C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076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920" y="377100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076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9804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816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3792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9804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816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8DF-0A11-4A88-B3D1-DBCE5306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B64-529A-4833-8179-843B0A08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BEB-D0CF-4A76-A5E2-B2E18825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37920" y="189000"/>
            <a:ext cx="8163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65A-35D4-48BE-86B8-008A4CD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3A3-8F52-45C8-AF42-7E75430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607-E854-4ABB-A811-0F48C5D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F43-C1B6-4C33-A155-25EAF767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6208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3" marL="1619280" indent="-27792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4" marL="206676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5" marL="2066760" indent="-2682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6" marL="2066760" indent="-2682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4400" y="6454440"/>
            <a:ext cx="2666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ter dat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3720" y="6454440"/>
            <a:ext cx="21524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440" y="6454440"/>
            <a:ext cx="504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55c1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4B3A-B8B3-4AEC-9164-3C017AF3BC39}" type="slidenum">
              <a:rPr b="0" lang="en-US" sz="1000" spc="-1" strike="noStrike">
                <a:solidFill>
                  <a:srgbClr val="d55c1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"/>
          <p:cNvPicPr/>
          <p:nvPr/>
        </p:nvPicPr>
        <p:blipFill>
          <a:blip r:embed="rId2"/>
          <a:stretch/>
        </p:blipFill>
        <p:spPr>
          <a:xfrm>
            <a:off x="7543800" y="6326280"/>
            <a:ext cx="125244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PowerPoint_STD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6208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3" marL="1619280" indent="-27792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4" marL="206676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5" marL="2066760" indent="-2682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6" marL="2066760" indent="-2682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PowerPoint_STD_BG_T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2449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d55c19"/>
                </a:solidFill>
                <a:latin typeface="Lucida Sans"/>
              </a:rPr>
              <a:t>GStreamer as multimedia framework in Android: a new alternative.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90400" y="4061880"/>
            <a:ext cx="7753680" cy="12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ELF Embedded Linux Conference Europe 20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enjamin Gaignar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ctober 27, 2010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02C7-901D-47A9-98C5-D8B01015ACA6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MetadataRetriever services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umbnail generation for video files uses hardware accelerator for video decoding and color space conversion (YUV2RGB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droid metadata tags are mapped to GStreamer tags to extract: codec, bit rate, album art, ..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move OpenCore implementation from Android MediaScanner class =&gt; everything is done by GStreamer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 a simpler graph than playbin2 for better performance and without cpu/mem heavy cost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uridecodebin uri=%s ! icbtransform ! appsink caps="video/x-raw-rgb,bpp=16”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video is decoded (not audio) for thumbnail generat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C03-4AFE-4D5D-A987-20F4491CC38B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uridecobin optimizations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thumbnails generation we don’t need to decode audio stream, we use uridecodebin’s “autoplug-continue” callback to limit graph building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6" descr="uridecodebin.png"/>
          <p:cNvPicPr/>
          <p:nvPr/>
        </p:nvPicPr>
        <p:blipFill>
          <a:blip r:embed="rId1"/>
          <a:stretch/>
        </p:blipFill>
        <p:spPr>
          <a:xfrm>
            <a:off x="0" y="2549520"/>
            <a:ext cx="9144000" cy="2833560"/>
          </a:xfrm>
          <a:prstGeom prst="rect">
            <a:avLst/>
          </a:prstGeom>
          <a:ln w="0">
            <a:noFill/>
          </a:ln>
        </p:spPr>
      </p:pic>
      <p:sp>
        <p:nvSpPr>
          <p:cNvPr id="144" name="Multiply 7"/>
          <p:cNvSpPr/>
          <p:nvPr/>
        </p:nvSpPr>
        <p:spPr>
          <a:xfrm>
            <a:off x="4390920" y="4468680"/>
            <a:ext cx="914400" cy="914400"/>
          </a:xfrm>
          <a:prstGeom prst="pie">
            <a:avLst/>
          </a:prstGeom>
          <a:solidFill>
            <a:srgbClr val="d55c19"/>
          </a:solidFill>
          <a:ln w="25560">
            <a:solidFill>
              <a:srgbClr val="9c41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31FB-3399-4339-A89F-012B22D55F13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uridecobin optimizations (2)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metadata retrieving use the same technique but don’t graph video too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t saves time at graph building, reduce memory usage, don’t use any hardware resourc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0" name="Picture 6" descr="uridecodebin.png"/>
          <p:cNvPicPr/>
          <p:nvPr/>
        </p:nvPicPr>
        <p:blipFill>
          <a:blip r:embed="rId1"/>
          <a:stretch/>
        </p:blipFill>
        <p:spPr>
          <a:xfrm>
            <a:off x="0" y="2549520"/>
            <a:ext cx="9144000" cy="2833560"/>
          </a:xfrm>
          <a:prstGeom prst="rect">
            <a:avLst/>
          </a:prstGeom>
          <a:ln w="0">
            <a:noFill/>
          </a:ln>
        </p:spPr>
      </p:pic>
      <p:sp>
        <p:nvSpPr>
          <p:cNvPr id="151" name="Multiply 7"/>
          <p:cNvSpPr/>
          <p:nvPr/>
        </p:nvSpPr>
        <p:spPr>
          <a:xfrm>
            <a:off x="4390920" y="4468680"/>
            <a:ext cx="914400" cy="914400"/>
          </a:xfrm>
          <a:prstGeom prst="pie">
            <a:avLst/>
          </a:prstGeom>
          <a:solidFill>
            <a:srgbClr val="d55c19"/>
          </a:solidFill>
          <a:ln w="25560">
            <a:solidFill>
              <a:srgbClr val="9c41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Multiply 8"/>
          <p:cNvSpPr/>
          <p:nvPr/>
        </p:nvSpPr>
        <p:spPr>
          <a:xfrm>
            <a:off x="4299120" y="3643200"/>
            <a:ext cx="914400" cy="914400"/>
          </a:xfrm>
          <a:prstGeom prst="pie">
            <a:avLst/>
          </a:prstGeom>
          <a:solidFill>
            <a:srgbClr val="d55c19"/>
          </a:solidFill>
          <a:ln w="25560">
            <a:solidFill>
              <a:srgbClr val="9c41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How to cope with Android licensing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droid is under APACHE licens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under LGPL v2.1 licens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e wrapper between Android multimedia library and GStreamer is under ST-Ericsson copyright and is dedicated to U671X hardware platform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libraries are dynamically linked in Android framewor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dd NOTICE files in GStreamer to match with Android build proces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509F-17FC-4615-B891-0B0AA6982D99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Improvements done in GStreamer </a:t>
            </a:r>
            <a:br>
              <a:rPr sz="2800"/>
            </a:b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with Collabora Multimedia suppor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videmux and qtdemux parsing speed up and memory consumption reduct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dd “push mode” to avidemux, qtdemux and flvdemux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w RTSP buffering mode to handle data burst on mobile network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queue2 ring buffer mode improvement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QoS message to detect framedrop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ll those improvements (+ trivial bugs correction) have being released under LGPLv2.0 and are now available on GStreamer main stream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5814-9184-4A66-AB72-379F9BE106BA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Enter date her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864-B8E3-4DCF-A04F-8FA3D43B1FFC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U671X-based  phones in mass production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pic>
        <p:nvPicPr>
          <p:cNvPr id="167" name="Picture 10" descr="e110.jpg"/>
          <p:cNvPicPr/>
          <p:nvPr/>
        </p:nvPicPr>
        <p:blipFill>
          <a:blip r:embed="rId1"/>
          <a:stretch/>
        </p:blipFill>
        <p:spPr>
          <a:xfrm>
            <a:off x="369720" y="148284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1"/>
          <p:cNvSpPr/>
          <p:nvPr/>
        </p:nvSpPr>
        <p:spPr>
          <a:xfrm>
            <a:off x="3219480" y="992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ER betouch E12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15960" y="10018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ER betouch E11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5870520" y="10018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ER betouch E13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1" name="Picture 15" descr="tianyi_2.jpg"/>
          <p:cNvPicPr/>
          <p:nvPr/>
        </p:nvPicPr>
        <p:blipFill>
          <a:blip r:embed="rId2"/>
          <a:stretch/>
        </p:blipFill>
        <p:spPr>
          <a:xfrm>
            <a:off x="206280" y="3730680"/>
            <a:ext cx="5562720" cy="31273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6"/>
          <p:cNvSpPr/>
          <p:nvPr/>
        </p:nvSpPr>
        <p:spPr>
          <a:xfrm>
            <a:off x="901800" y="4842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TC Tiany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3" name="Picture 17" descr="e120_2.jpg"/>
          <p:cNvPicPr/>
          <p:nvPr/>
        </p:nvPicPr>
        <p:blipFill>
          <a:blip r:embed="rId3"/>
          <a:stretch/>
        </p:blipFill>
        <p:spPr>
          <a:xfrm>
            <a:off x="2928960" y="1587600"/>
            <a:ext cx="2897280" cy="217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e130_2.jpg"/>
          <p:cNvPicPr/>
          <p:nvPr/>
        </p:nvPicPr>
        <p:blipFill>
          <a:blip r:embed="rId4"/>
          <a:stretch/>
        </p:blipFill>
        <p:spPr>
          <a:xfrm>
            <a:off x="5504040" y="1574640"/>
            <a:ext cx="30002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onclusion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With minimum effort, GStreamer brings to Android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 full open source multimedia framework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Maturity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dditional codecs (VC1, DIVX…) and demuxers (AVI, FLV…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ommunity support and reactivity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rformance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volution (future codec, new streaming protocols, Video Telephony)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3264-1D0D-4FA4-9009-0A114D1B5525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PowerPoint_STD_Break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0400" y="2449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Questions and Answers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90400" y="4061880"/>
            <a:ext cx="7753680" cy="12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90400" y="2449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THANK YOU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90400" y="4061880"/>
            <a:ext cx="7753680" cy="12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4736-8402-43E6-A35A-E7F4EA64B10E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ontext 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-Ericsson U671X Android platform on ARM9 @ 416 MHz with video, audio and graphics dedicated hardware accelerator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ultimedia hardware capabilities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Video encode and deco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udio encode and deco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maging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inux kernel 2.6.2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0.10.2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90CD-34F7-44A8-9A83-55BA6E49199B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GStreamer in Android: why ? 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a mature multimedia framework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a flexible framework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supported by an active communit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-Ericsson U671X platform was developed and matured since years using GStreamer as multimedia framework with succes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required by most of Linux framework: MEEGO, Ubunt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graph based approach is naturally fitting U671X hardware split (1 GStreamer element for 1 HW block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C2CB-773B-43DC-9205-0255F87BA618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GStreamer to handle what ?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ultimedia playback: audio/video streams from local storage, streaming or progressive download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ultimedia recording: Camera application, Sound Recorder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etadata retrieving: audio/video tags, bitrates, codec information, thumbnails generat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o not touch to Android java API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ollow Android versions (cupcake, donut, éclair …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espect internal Android API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17E4-929C-4B64-A4CA-1237BEC79FD8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GStreamer replace OpenCore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1108080" y="747720"/>
          <a:ext cx="626256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747720"/>
                    <a:ext cx="62625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4EE8-213C-40C8-8B96-7F61986BF081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GStreamer replace OpenCore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graphicFrame>
        <p:nvGraphicFramePr>
          <p:cNvPr id="116" name="Object 10"/>
          <p:cNvGraphicFramePr/>
          <p:nvPr/>
        </p:nvGraphicFramePr>
        <p:xfrm>
          <a:off x="1108080" y="747720"/>
          <a:ext cx="625968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747720"/>
                    <a:ext cx="625968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F28A-CA2B-432B-83DF-25710177F1B9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Porting GStreamer on Android, what are the difficulties ?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droid isn’t built from classical Linux way (no pkg-config, no configure, no makefile…) it is required to adapt GStreamer build process to Android on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lib isn’t provided natively by Android, need to add it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ll of this have required to rewrite +70 Android makefiles (.mk)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but it was also an opportunity to carefully select the embedded elements to optimize GStreamer memory foot print and speed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oday U671X android platform embeds 273 elements split in 39 GStreamer plugin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use dynamic libraries to not break GStreamer (LGPL) and Android (Apache) licenses term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B0F4-1B26-4E89-89C9-498870F8D067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MediaPlayer services 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laybin2 is used to handle playback, streaming and progressive download servi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laybin2 has been customized to reduce memory consumption, with Collabora Multimedia partnership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 2 dedicated sinks for audio and video rendering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udio sink requesting adaptation in Android AudioTrack clas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ake match GStreamer states (PAUSED, PLAYING …) and events (EOS, SEEK, ASYNC-DONE) to Android MediaPlayer expected states and messag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ll the complexity to handle local playback, streaming or progressive download is hidden by playbin2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F4F1-DDD6-4D2C-96C5-A87F1DB43C59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MediaRecorder services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 dedicated GStreamer pipeline with hardware accelerated plugin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a limited number of codec supported in Android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Video: MPEG4, H263, H26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udio: AMR NB, AMR WB, AAC-L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one muxer required to handle all recording formats: gppmu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4l2src isn’t use as video source: Android Camera class provide the video fram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54:31Z</dcterms:created>
  <dc:creator>epatrud</dc:creator>
  <dc:description/>
  <dc:language>en-US</dc:language>
  <cp:lastModifiedBy>Benjamin Gaignard</cp:lastModifiedBy>
  <dcterms:modified xsi:type="dcterms:W3CDTF">2010-10-25T08:33:34Z</dcterms:modified>
  <cp:revision>197</cp:revision>
  <dc:subject/>
  <dc:title>TITLE - Lucida Sans, 28PT</dc:title>
</cp:coreProperties>
</file>